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6A42-B456-4222-93CD-F293E954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D25-2ECA-4AA2-93ED-8B5A4549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6784-364D-4FE0-AD8E-385B6EDDC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4380-C276-4549-B4CD-57FF9CCC9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EC433-F9E0-4936-86F0-9C88FD27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9737-B54B-48BB-B0C5-217B8A3E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E3BE-33F9-44A4-96A5-093F40D0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12AE8-41B7-4EFC-B27F-49493E085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08DE-1DE0-4661-8C52-6A8AFC39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999D-B574-49BC-9539-0D09B204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BCFC-EC2E-4A28-97D3-438A8A5C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FD17-E588-4C4E-AB9E-0E87A559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43FD-A8C3-45FC-A4C1-52088C7E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D454-B12B-4F1C-924B-A023ABA9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AA0A-88A2-4E03-9AC6-4F3009E1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8964-616C-4550-B81D-F350DF1F3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6248-ECCB-4809-B276-25C8CD923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047D-898F-4879-85B9-7EACD3B5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DED-2DAC-46DC-A802-1D5BE9AD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CAA-1F44-4CD9-9A1F-AEEDC48E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0AD8-21FA-43A2-9ADC-9139AC06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BA1-33B9-4AA8-9F73-A216FF83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EA09-A0E5-4658-B412-73C38DDB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5E8-FB42-4F42-84CD-5230B200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E1BE-2AAD-4363-8782-F88D21BE3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5A20-D1A5-4A91-B065-8086CD837D2C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enstrual Cyc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menstrual cyc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rocess in which females ripen or release one mature eg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verage menstrual cycle will repeat itself about every 28 days, but normal menstrual cycles can range from 21 to 40 day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es in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ituitary Hormones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ys 1-14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ring the first half of the cycle (Days 1-14) the pituitary produce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SH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  stimulates egg production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hormone also triggers the release of estrogen from the ovar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es in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Pituitary Hormon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Days 14-28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 the 14th day the pituitary begins releasing LH causing ov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H also directs the production of  progesterone which maintains the growth of the endometriu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f the egg is not fertilized upon arrival in the uterus progesterone levels drop causing estrogen levels to drop leading to  menstru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es in the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vari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867280" y="4114800"/>
            <a:ext cx="3657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ge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um begins to develo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5105520" y="1905120"/>
            <a:ext cx="46479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ge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gg continues to ripen; follicle grow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0" y="1981080"/>
            <a:ext cx="3962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ge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vulation fully mature egg bursts out of  follic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0" y="5257800"/>
            <a:ext cx="7696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ge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gg enters fallopian tube follicle remains and forms the corpus luteu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es in the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Ovari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ge 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An egg is beginning to mature within a cluster of cells called a follicl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ge 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Rapid follicle and egg grow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ge 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vulation occurs; fully mature egg bursts out of the follicle (fertile)  empty follicle transforms into the corpus lute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age 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Egg travels through fallopian tube (7 days) if not fertilized upon arrival in uterus the corpus luteum shrinks triggering menstruation and  ripening of new eg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es in the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Uteru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9" descr="H:\pictures\st1menstruation.JPG"/>
          <p:cNvPicPr/>
          <p:nvPr/>
        </p:nvPicPr>
        <p:blipFill>
          <a:blip r:embed="rId1"/>
          <a:stretch/>
        </p:blipFill>
        <p:spPr>
          <a:xfrm>
            <a:off x="1523880" y="1143000"/>
            <a:ext cx="2268720" cy="2895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H:\pictures\st2menstruation.JPG"/>
          <p:cNvPicPr/>
          <p:nvPr/>
        </p:nvPicPr>
        <p:blipFill>
          <a:blip r:embed="rId2"/>
          <a:stretch/>
        </p:blipFill>
        <p:spPr>
          <a:xfrm>
            <a:off x="4038480" y="1143000"/>
            <a:ext cx="2266920" cy="312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H:\pictures\st3menstruation.JPG"/>
          <p:cNvPicPr/>
          <p:nvPr/>
        </p:nvPicPr>
        <p:blipFill>
          <a:blip r:embed="rId3"/>
          <a:stretch/>
        </p:blipFill>
        <p:spPr>
          <a:xfrm>
            <a:off x="6705720" y="1143000"/>
            <a:ext cx="2155680" cy="2971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H:\pictures\st4menstruation.JPG"/>
          <p:cNvPicPr/>
          <p:nvPr/>
        </p:nvPicPr>
        <p:blipFill>
          <a:blip r:embed="rId4"/>
          <a:stretch/>
        </p:blipFill>
        <p:spPr>
          <a:xfrm>
            <a:off x="1828800" y="3657600"/>
            <a:ext cx="2597040" cy="3200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3" descr="H:\pictures\st5menstruation.JPG"/>
          <p:cNvPicPr/>
          <p:nvPr/>
        </p:nvPicPr>
        <p:blipFill>
          <a:blip r:embed="rId5"/>
          <a:stretch/>
        </p:blipFill>
        <p:spPr>
          <a:xfrm>
            <a:off x="4495680" y="3733920"/>
            <a:ext cx="2484720" cy="28954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4"/>
          <p:cNvSpPr/>
          <p:nvPr/>
        </p:nvSpPr>
        <p:spPr>
          <a:xfrm>
            <a:off x="533520" y="289548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1- Day 1-5 menstr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3200400" y="25146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2 Day 5- 13 pre-ovulatory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6095880" y="2895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3 Day 14 Ov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2971800" y="518148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ge 4 Day 15-28 post-ovulatory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ges in the 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Uteru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age 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Menstruation- Endometrium breaks down and blood, mucus, tissue, and the egg are shed through the vagi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age 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Menstrual flow stops &amp; endometrium begins to thick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age 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Endometrium continues to thick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tage 4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- The endometrium is at it’s thickest poi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2T13:39:37Z</dcterms:created>
  <dc:creator>Computer Department</dc:creator>
  <dc:description/>
  <dc:language>en-US</dc:language>
  <cp:lastModifiedBy>Daly Dominguez</cp:lastModifiedBy>
  <cp:lastPrinted>2001-03-29T13:47:20Z</cp:lastPrinted>
  <dcterms:modified xsi:type="dcterms:W3CDTF">2016-05-31T19:29:27Z</dcterms:modified>
  <cp:revision>32</cp:revision>
  <dc:subject/>
  <dc:title>The Menstrual Cycle</dc:title>
</cp:coreProperties>
</file>